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02EF-1D2D-4C2A-9294-C6F336ED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2A6-930D-49ED-B0DA-BC809808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95A4-862E-49AD-9494-6425ABF2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26A8-CBE7-4ABF-A593-FB094BC5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B3BD-9AA9-4277-B1F0-CEA7E038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31CE-60D9-4F17-A1EE-24B94E29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EE1D-5AB5-4481-964C-C08299D2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A60F-9C87-412C-A7C7-CBBFF2F4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9F72-41B5-4BAE-B325-F8310D95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120C-71A2-4C21-8CE5-9FD64906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5645-EDC3-4400-9362-CDDF49DB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B9F6-75AF-40A5-A313-B2061A55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2844-B8BC-4A21-A43C-8A9867D0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3A2E-7AB2-4C23-A4FA-FC28B523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AF39-3653-4D8E-A6F0-1412C128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57D1-83BD-46EF-B394-F5409F6F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EDF6-400F-4DF4-891A-2F602C4E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1EFE-B3EB-4ECB-8C3F-5284960F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29F3-34BF-4888-85BD-422526CF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3EB5-BF86-45C1-AD91-53132178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9DC6-F4D6-43C4-84E6-659EB2F1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F355-16E6-45E8-A80D-DB0348F7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133E-26A5-4A65-959C-69CD0F9B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3B77-A417-442B-A3AC-F15DA010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5E27-869E-4114-8D54-041995CE0A4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7932-AFB1-4B2A-8CE2-DAD03420ADD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5000"/>
            </a:b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V: Dissemination: Reporting Resear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1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urpose of research report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imitation of th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he research can be the base for other resear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focus of th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ignificance of th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.\Lorenza action research Al Bayan SE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structure and organization of re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ritten as last part but after title in impagi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 and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an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and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at of a re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-410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ort must be organized in a way that one part lead to the other and it is easy for the reader to understand and follow the research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layout: Cover (title, date, place), page numbers, table of content, consistency in headings (1,2,3..) (font, size, style), headings 1 or new chapter always in a new page, don’t leave orphan or widow lines, IBC model, correct bibliograp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Different ways of reporting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Purpose of the research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Organization and structure of a written research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Writing a research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Using technology to report a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Different ways of reporting resear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deo documentary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o documentary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l Written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 Point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deo documentary re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00040" y="18568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a very attractive way to present finding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 can show the process of th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it would need some explana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can be dispersive and not let audience focus on the find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66"/>
                </a:solidFill>
                <a:latin typeface="Arial"/>
              </a:rPr>
              <a:t>Audio  documentary re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It can be use  to report a story summary of th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Useful when some interesting data came up in interviews where to listen to the answer can clarify the interpretation of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It can be converted to a pod cast so the listener can take it with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al written re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ly it fits more to long scientific researches published on scientific journals and magaz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s can be included as evid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it can also be used, formatted in a simple way as completion of a power-point present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Point presen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useful to present findings face to 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presents just the main ideas (usually followed by a written repor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ows interaction between presenter and aud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at of the presentation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KISS meth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de background and lay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st headings on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dy language, tone of vo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of s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nt: style, size, consisten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urpose of research report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tell how the idea came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earch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ethods used to collect primary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secondary data were colle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ethod used to analyz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nefits of th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ort, discuss findings and how they can be appli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26:51Z</dcterms:created>
  <dc:creator>user</dc:creator>
  <dc:description/>
  <dc:language>en-US</dc:language>
  <cp:lastModifiedBy>t.alnuimi</cp:lastModifiedBy>
  <dcterms:modified xsi:type="dcterms:W3CDTF">2008-08-07T10:46:21Z</dcterms:modified>
  <cp:revision>98</cp:revision>
  <dc:subject/>
  <dc:title>Course: Fundamentals of Research</dc:title>
</cp:coreProperties>
</file>